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4080" y="682560"/>
            <a:ext cx="457380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4960" rIns="849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7640" y="4343040"/>
            <a:ext cx="50227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CCB6F9A5-B46E-473C-BDA9-2B07D0175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584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689E53C6-5C52-4D3B-872C-30C1A6B6EB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584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060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96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060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524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060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596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060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524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0" y="6443640"/>
            <a:ext cx="2286000" cy="409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339933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95480" y="64771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9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04/16/2008 - 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CELF-2008-SVC-</a:t>
            </a:r>
            <a:fld id="{4F7B281B-62CB-41B0-89E8-50208D061BC2}" type="slidenum"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971800" y="64771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9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04/16/2008 - 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CELF-2008-SVC-</a:t>
            </a:r>
            <a:fld id="{CD6F296D-5796-4BDC-8CA7-7FC5FC7B1156}" type="slidenum"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339933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339933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339933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epitool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562320"/>
            <a:ext cx="6629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Lucida Sans Unicode"/>
              </a:rPr>
              <a:t>Using a JTAG in Linux Driver Debugging</a:t>
            </a:r>
            <a:endParaRPr b="1" lang="en-US" sz="4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352320" y="2666880"/>
            <a:ext cx="4800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upporting New Hard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0400"/>
            <a:ext cx="3962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Lucida Sans Unicode"/>
                <a:ea typeface="Arial"/>
              </a:rPr>
              <a:t>Mike And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Lucida Sans Unicode"/>
                <a:ea typeface="Arial"/>
              </a:rPr>
              <a:t>Chief 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Lucida Sans Unicode"/>
                <a:ea typeface="Arial"/>
              </a:rPr>
              <a:t>The PTR Group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Lucida Sans Unicode"/>
                <a:ea typeface="Arial"/>
              </a:rPr>
              <a:t>http://www.theptrgrou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Old School Driver Registration #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692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Likewise, when a device driver removes itself from the system, it should unregister itself from the kernel to free up that major number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ypically in the </a:t>
            </a:r>
            <a:r>
              <a:rPr b="0" lang="en-US" sz="3200" spc="-1" strike="noStrike">
                <a:solidFill>
                  <a:srgbClr val="cc0000"/>
                </a:solidFill>
                <a:latin typeface="Lucida Sans Unicode"/>
              </a:rPr>
              <a:t>__exit</a:t>
            </a: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 function: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unregister_chrdev(unsign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int major, const char *name);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34320" y="2057400"/>
            <a:ext cx="1714320" cy="22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New-School Driver Registration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you need to get beyond the 256 major limit, you’ll need to use a different approach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is uses a different API, dev_t, cdev structures and a much more involved registration approach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All of this is beyond scope for the current discussion, however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Lucida Sans Unicode"/>
              </a:rPr>
              <a:t>Giving Your Driver Something to do</a:t>
            </a:r>
            <a:endParaRPr b="1" lang="en-US" sz="3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Character device driver exports services i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e_operations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structu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re are 26 supported operations in the 2.6 kern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Lucida Sans Unicode"/>
              </a:rPr>
              <a:t>Up from 17 in the 2.4.kernel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only supply those calls that make sense for your devi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can explicitly return error codes for unsupported functions or have the system return the default ENOTSUPP error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ypically, th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e_operations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structure is statically initializ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Using C99 tagged initializer forma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struct file_operations</a:t>
            </a: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 #1 of 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file_operations {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module *owner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ff_t  (*llseek) (struct file *, loff_t, in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read) (struct file *, char __user *, size_t, loff_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aio_read) (struct kiocb *, char __user *, size_t, loff_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write) (struct file *, const char __user *, size_t, 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ff_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aio_write) (struct kiocb *, const char __user *, 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ize_t, loff_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readdir) (struct file *, void *, filldir_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nsigned int (*poll) (struct file *, struct poll_table_struc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ioctl) (struct inode *, struct file *, unsigned int, 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nsigned long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ng    (*unlocked_ioctl) (struct file *, unsigned int, unsigned long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ng    (*compat_ioctl) (struct file *, unsigned int, unsigned long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mmap) (struct file *, struct vm_area_struc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open) (struct inode *, struct file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flush) (struct file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struct file_operations</a:t>
            </a: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 #2 of 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release) (struct inode *, struct file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fsync) (struct file *, struct dentry *, int datasync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aio_fsync) (struct kiocb *, int datasync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fasync) (int, struct file *, int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lock) (struct file *, int, struct file_lock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readv) (struct file *, const struct iovec *, unsigned long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ff_t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writev) (struct file *, const struct iovec *, unsigned long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ff_t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sendfile) (struct file *, loff_t *, size_t, read_actor_t, void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sendpage) (struct file *, struct page *, int, size_t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ff_t *, int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signed long (*get_unmapped_area)(struct file *, unsigned long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signed long, unsigned long, unsigned long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check_flags)(int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dir_notify)(struct file *filp, unsigned long arg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flock) (struct file *, int, struct file_lock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ich File Operations do I Need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ypically, a driver will implement: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open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release() 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339933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Lucida Sans Unicode"/>
              </a:rPr>
              <a:t>a.k.a., the user-space </a:t>
            </a:r>
            <a:r>
              <a:rPr b="0" lang="en-US" sz="1600" spc="-1" strike="noStrike">
                <a:solidFill>
                  <a:srgbClr val="cc0000"/>
                </a:solidFill>
                <a:latin typeface="Lucida Sans Unicode"/>
              </a:rPr>
              <a:t>close()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read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write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ioctl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dditional features like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mmap(), poll(), fasync(),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flush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re nice to have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 can add them at any time during developmen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me methods like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llseek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readv()/writev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may not apply to your device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 decide what to support and errors to return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2920" y="1676520"/>
            <a:ext cx="14256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Initializing the file_operation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99 tagged initialization of the structures allows you to initialize the fields by nam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No worry about the structure layout (which may change between kernel revisions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Un-initialized function entries in the structure shown below will be initialized to NUL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file_operations fops = {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ad    = my_read,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write   = my_write,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octl   = my_ioctl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pen    = my_open,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lease = my_release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Device Drive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tatically-linked device drivers are notoriously difficult to debu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 error can cause a panic or oops before you can even get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printk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to work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se will typically require a JTAG to debug them easily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Dynamically-linked drivers are marginally easier because you can get more debugging infrastructure into place before loading them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use of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read_proc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write_proc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functions and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printk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re typical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JTAGs can help here too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Hardware Debugging Tool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6883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traditional hardware debug tool was the In-Circuit Emulator (ICE)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 device that plugged into the CPU socket and emulated the CPU itself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se were rather expensiv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$30K+ for the good one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oday, most devices that call themselves an ICE are actually JTAG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86600" y="3505320"/>
            <a:ext cx="13590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39480" y="3048120"/>
            <a:ext cx="13100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vocet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73160" y="5562720"/>
            <a:ext cx="13906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Hitex Devel 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Lucida Sans Unicode"/>
              </a:rPr>
              <a:t>Why the Traditional ICE has Faded Away</a:t>
            </a:r>
            <a:endParaRPr b="1" lang="en-US" sz="3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6883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biggest problem faced by the ICE concept was the increasing pin counts of processor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.g., 939 pins for the Athlon-64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ach pin required a wire to the I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ach wire started to become an antenna as frequencies increas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Processors also started to move to Ball Grid Array (BGA) packag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No way to get to the pins in the center of the part because the part is soldered to the motherboar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086600" y="1295280"/>
            <a:ext cx="1447920" cy="118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162920" y="2851200"/>
            <a:ext cx="1371600" cy="1339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854840" y="2514600"/>
            <a:ext cx="782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In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0960" y="4267080"/>
            <a:ext cx="7981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086600" y="4678200"/>
            <a:ext cx="1523880" cy="1221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30280" y="5943600"/>
            <a:ext cx="7430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We Will Talk Abou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hat are we trying to do?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Hardware debugger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hat is JTAG?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How does it work?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Board bring up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Linux boot sequen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ebugging the kernel and device driver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Enter the JTAG Por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563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Joint Test Action Group (JTAG) is the name associated with the IEEE 1149.1 standard entitled </a:t>
            </a:r>
            <a:r>
              <a:rPr b="0" i="1" lang="en-US" sz="2800" spc="-1" strike="noStrike">
                <a:solidFill>
                  <a:srgbClr val="003399"/>
                </a:solidFill>
                <a:latin typeface="Lucida Sans Unicode"/>
              </a:rPr>
              <a:t>Standard Test Access Port and Boundary-Scan Architectur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riginally introduced in 1990 as a means to test printed circuit boards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 alternative to the </a:t>
            </a:r>
            <a:r>
              <a:rPr b="0" i="1" lang="en-US" sz="2400" spc="-1" strike="noStrike">
                <a:solidFill>
                  <a:srgbClr val="003399"/>
                </a:solidFill>
                <a:latin typeface="Lucida Sans Unicode"/>
              </a:rPr>
              <a:t>bed of nail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819520" cy="247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263360" y="5181480"/>
            <a:ext cx="13068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Test Electro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How JTAG Work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JTAG is a boundary-scan device that allows the developer to sample the values of lines on the devi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llows you to change those values as wel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JTAG is built to allow chaining of multiple device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orks for multi-core processors, too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Detail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JTAG is a simple serial protoco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onfiguration is done by manipulating the state machine of the device via the TMS lin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514600" y="2863800"/>
            <a:ext cx="617220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-Aware Processo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Most embedded processors today support JTAG or one of its relatives like BDM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.g., ARM/XScale, PPC, MIP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ven the x86 has a JTAG port although it is rarely wired ou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Grandma can barely send e-mail, let alone know what to do with a JTAG port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processors like MIPS come in different version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me with JTAG ports for development, some without in order to save $$$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Vendo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veral different vendors sell JTAG port interface hardwar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JTAG is also referred to as On-Chip Debugging (OCD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Here are a few of the vendors: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Wind River Systems (http://www.windriver.com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batron AG (http://www.abatron.ch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merican Arium (http://www.arium.com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Mentor Graphics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Lucida Sans Unicode"/>
                <a:hlinkClick r:id="rId3"/>
              </a:rPr>
              <a:t>http://www.epitools.com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vendors do certain processors better than other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MIPS will usually have a more custom EJTAG interfa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Connection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maximum speed of JTAG is 100 MHz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 ribbon cable is usually sufficient to connect to the targe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onnection to the development host is accomplished via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Parallel por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USB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rial por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thernet 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867280" y="3581280"/>
            <a:ext cx="2222640" cy="221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724280" y="3124080"/>
            <a:ext cx="1778040" cy="1181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733920" y="4648320"/>
            <a:ext cx="1371600" cy="106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31360" y="5715000"/>
            <a:ext cx="9550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bat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05920" y="4060800"/>
            <a:ext cx="1078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Wind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90840" y="5715000"/>
            <a:ext cx="9032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Olim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User Interfac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5006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JTAG interfaces use a GDB-style software interfa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y GDB-aware front end will work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Others have Eclipse plug-ins to access the JTAG via an ID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still use a command line interfa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181480" y="1676520"/>
            <a:ext cx="3886200" cy="3031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934760" y="4800600"/>
            <a:ext cx="1078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Wind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can you do with a JTAG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ypical JTAG usage includes reflashing boot firmwar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ven the really cheap JTAG units can do thi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However, it is in the use as a debugging aid that JTAG comes into its own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can set hardware or software breakpoints and debug in source cod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phisticated breakpoint strategies and multi-core debugging usually require the more expensive unit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JTAG units can also be used to exercise the address bus and peripheral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s is what JTAG was originally designed for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Hardware Configuration Fil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Most JTAG units require you to describe the hardware registers in a configuration fi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s is also how you describe what processor architecture you are usin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ll of that information about register maps that you collected earlier now goes into the configuration fi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Unfortunately, there is no standard format for these configuration fil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ach JTAG vendor uses different syntax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Example Configuration Fil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Many JTAG units split the configuration files into a CPU register file and a board configuration fil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5486400" cy="99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057400" y="3911760"/>
            <a:ext cx="647712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23280" y="6172200"/>
            <a:ext cx="9550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bat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are we trying to do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board bring-up process is loaded with potential gotcha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Obtaining data sheets may be near impossib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hardware may or may not be workin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boot firmware may have restrictive licensing issu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re are two phases of device driver development that we’ll need to addres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Getting the board to work at al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dding features for peripheral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veloping the Configuration Fil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JTAG vendor will likely already have a register file for the processor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ARM920, PPC8241, etc.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r task will be to develop the board configuration fil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re may be a configuration file for the reference board that you can use as a starting poin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configuration file is essentially a script of commands to initialize the target boar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 keep working on it until you can initialize memory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Once memory is on-line, you should then be able to write values into memory via the JTAG that can be read back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n, enhance the configuration to initialize other peripheral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Linux-Aware JTAG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re are several rather tricky transitions during the Linux booting proces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ransitioning from flash to RAM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ransitioning from physical addresses to kernel virtual address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se transitions require the use of hardware breakpoint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Make sure that your JTAG is “Linux aware”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It must understand Linux’s use of the MMU to be of much use for driver debuggin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The Linux Boot Sequenc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Like the boot firmware, the Linux kernel starts in assembly languag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ets up the caches, initializes some MMU page table entries, configures a “C” stack and jumps to a C entry point called </a:t>
            </a:r>
            <a:r>
              <a:rPr b="0" lang="en-US" sz="2000" spc="-1" strike="noStrike">
                <a:solidFill>
                  <a:srgbClr val="cc0000"/>
                </a:solidFill>
                <a:latin typeface="Lucida Sans Unicode"/>
              </a:rPr>
              <a:t>start_kernel()</a:t>
            </a: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 (init/main.c) 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start_kernel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is then responsible for: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Architecture and machine-specific hardware initialization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Initializing virtual memory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tarting the system clock tick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Initializing kernel subsystems and device driver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Finally, a system console is started and the init process is creat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init process (PID 1) is then the start of all user-space processing 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and Early Kernel Debug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 odd thing happens when the MMU is enabl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All of the physical addresses suddenly get translated into virtual addresse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kernel’s debug symbols are all built assuming a virtual address spa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’ll need to turn debugging symbols on in the kern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Consequently, while you can step through the early code by using a hardware breakpoint address, software breakpoint on symbols will only work after the MMU is enabl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Fortunately, this happens fairly early in the kernel initialization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can typically tell the JTAG to step so many instructions and then stop again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tep past the MMU initialization, stop and then set additional breakpoint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Configure Kernel for Debugging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nable debugging info and rebuild the kerne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1690560"/>
            <a:ext cx="7315200" cy="44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Loading Symbols into the JTAG UI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epending on the JTAG UI, you may simply have to load the kernel’s vmlinux image to be able to access the symbols by nam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techniques for doing this vary by JTAG vendor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ttach the JTAG to the hard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Reset the board via JTAG and hold in rese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et H/W breakpoint using the JTAG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Load the vmlinux via the JTAG (this loads the symbols)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Command the JTAG to tell the hardware to “go”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ce you encounter the hardware breakpoint, you can step in assembly until the MMU is enabl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MMU will translate physical addresses to virtual addresse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Once virtual addressing is on, set breakpoints as norma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Using JTAG to Dump printk Buffer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you kernel hangs right after displaying “Uncompressing Kernel Image … OK” message…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You probably have printk() output, but the serial console isn’t initialized ye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e can dump the printk buffer using the JTAG!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Look in the kernel’s System.map file for something like “__log_buf”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 grep __log_buf /boot/System.map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0445980 b __log_buf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umping printk Buffer #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address of the buffer is a translated kernel addres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trip off the 0xC0000000 portion of the address to get (typically) the physical address on processors like the X86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i.e., 0xc0445980 would typically be at physical address 0x445980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must understand your processor to do the translations correctly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Now, use the JTAG to dump that addres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Raw printk output, but you can get an idea of what it was doing when it crash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ata is still there even after reset (but not power-off)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GDB-Aware JTAG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the JTAG is GDB-aware, then you will be able to control it using normal GDB command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ttach to the JTAG via “target remote xx” command where “xx” is via Ethernet, serial or other connection between your JTAG and the hos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Use the GDB “mon” command to pass commands directly to the JTA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DD GUI Front-End Exampl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nvoked from command line with vmlinux compiled for debuggin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n attach to JTAG using “target remote” command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687920" y="1219320"/>
            <a:ext cx="4303800" cy="44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Porting Linux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Bringing Linux up on a new board will require some knowledge of assembly language for your processor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re are several transitions from assembly to “C” and back if we’re using zImag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ebugging at this level will require the use of JTAGs, or other hardware assistan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Never underestimate the power of an LED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48720" y="4724280"/>
            <a:ext cx="112392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Device Drive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tatically linked driver symbols are already built into the kernel’s symbol tabl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imply set break points on the driver methods themselves 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ynamically loaded drivers require additional step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e need to find the addresses used by the driver 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next few charts assume a GDB-aware JTA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Loadable Modul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In order to debug a loaded module, we need to tell the debugger where the module is in memory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module’s information is not in the vmlinux image because that shows only statically linked driver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How we proceed depends on where we need to debu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If we need to debug the __init code, we need to set a breakpoint in the sys_init_module() function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Loadable Modules #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e’ll need to breakpoint just before the control is transferred to the module’s __ini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mewhere around line 1907 of module.c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Once the breakpoint is encountered, we can walk the module address list to find the assigned address for the modu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We then use the add-symbol-file GDB command to add the debug symbols for the driver at the address for the loaded modul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.g.,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-symbol-file ./mydriver.ko 0x&lt;addr&gt; -e .init.text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Loadable Modules #3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Now, you can set breakpoints via the GDB commands to the JTAG and tell the system to continue until a breakpoint in encountered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if the __init is Working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you do not need to debug the __init code, then load the driver and look in the /sys/modules/&lt;module name&gt;/sections/.text for the address of the text segment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Next, use the add-symbol-file command again, but use the .text address and omit the “–e .init.text”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t your breakpoints and continu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User-Space Address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ithin Linux, each user-space application occupy the same virtual address spa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address spaces are physically different, but the addresses overlap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390760" y="3352680"/>
            <a:ext cx="809640" cy="2438280"/>
            <a:chOff x="2390760" y="3352680"/>
            <a:chExt cx="809640" cy="2438280"/>
          </a:xfrm>
        </p:grpSpPr>
        <p:sp>
          <p:nvSpPr>
            <p:cNvPr id="215" name=""/>
            <p:cNvSpPr/>
            <p:nvPr/>
          </p:nvSpPr>
          <p:spPr>
            <a:xfrm>
              <a:off x="2390760" y="335268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90760" y="5469120"/>
              <a:ext cx="809640" cy="321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90760" y="5147280"/>
              <a:ext cx="809640" cy="321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90760" y="4088520"/>
              <a:ext cx="809640" cy="1058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He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819160" y="464076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90760" y="372060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160" y="408852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90760" y="399672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0760" y="362844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562200" y="3352680"/>
            <a:ext cx="809640" cy="2438280"/>
            <a:chOff x="3562200" y="3352680"/>
            <a:chExt cx="809640" cy="2438280"/>
          </a:xfrm>
        </p:grpSpPr>
        <p:sp>
          <p:nvSpPr>
            <p:cNvPr id="225" name=""/>
            <p:cNvSpPr/>
            <p:nvPr/>
          </p:nvSpPr>
          <p:spPr>
            <a:xfrm>
              <a:off x="3562200" y="335268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62200" y="5469120"/>
              <a:ext cx="809640" cy="321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62200" y="5147280"/>
              <a:ext cx="809640" cy="321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62200" y="4088520"/>
              <a:ext cx="809640" cy="1058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He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990600" y="464076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2200" y="372060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90600" y="408852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62200" y="399672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62200" y="362844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48360" y="3352680"/>
            <a:ext cx="809640" cy="2438280"/>
            <a:chOff x="6048360" y="3352680"/>
            <a:chExt cx="809640" cy="2438280"/>
          </a:xfrm>
        </p:grpSpPr>
        <p:sp>
          <p:nvSpPr>
            <p:cNvPr id="235" name=""/>
            <p:cNvSpPr/>
            <p:nvPr/>
          </p:nvSpPr>
          <p:spPr>
            <a:xfrm>
              <a:off x="6048360" y="335268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48360" y="5469120"/>
              <a:ext cx="809640" cy="321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48360" y="5147280"/>
              <a:ext cx="809640" cy="321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4088520"/>
              <a:ext cx="809640" cy="1058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He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76760" y="464076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8360" y="372060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6760" y="408852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99672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48360" y="362844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8120" y="5710320"/>
            <a:ext cx="820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0x1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7880" y="3276720"/>
            <a:ext cx="892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0x80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0720" y="4197240"/>
            <a:ext cx="5281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791320"/>
            <a:ext cx="52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App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0440" y="5791320"/>
            <a:ext cx="52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App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93800" y="5791320"/>
            <a:ext cx="528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App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Confusion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JTAGs normally run in what is called </a:t>
            </a:r>
            <a:r>
              <a:rPr b="0" i="1" lang="en-US" sz="2800" spc="-1" strike="noStrike">
                <a:solidFill>
                  <a:srgbClr val="003399"/>
                </a:solidFill>
                <a:latin typeface="Lucida Sans Unicode"/>
              </a:rPr>
              <a:t>halt mode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 debuggin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entire processor is stopped when a given breakpoint address is access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is works reasonably well in kernel spa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ly one kernel address spa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hile it is possible to debug user applications with the JTAG, the JTAG can get confused by seeing the same virtual address in different applications due to context switch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s requires </a:t>
            </a:r>
            <a:r>
              <a:rPr b="0" i="1" lang="en-US" sz="2400" spc="-1" strike="noStrike">
                <a:solidFill>
                  <a:srgbClr val="003399"/>
                </a:solidFill>
                <a:latin typeface="Lucida Sans Unicode"/>
              </a:rPr>
              <a:t>run mode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support for the JTA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Run-Mode Suppor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Using a debugging agent in user space and register support like the ARM’s Debug Communications Channel (DCC) we can associate a virtual address to a particular context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is allows the breakpoint to only stop the one application instead of any application that matches the addres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ly a few JTAGs support this run mode debugging mechanism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Otherwise, we are left with normal GDB process trace (ptrace) debugging control via an application like gdbserver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Naturally, GDB already does a reasonable job for user-space debuggin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need to use JTAG for user-space debug is rare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5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Summary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670960" y="6019920"/>
            <a:ext cx="473040" cy="4316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Hardware debuggers such as JTAG are invaluable for exercising new hard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y let us test address lines and register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ce we can configure the board via the JTAG, we then take that info and use it to port the boot firm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We can usually burn the boot firmware into flash via the JTAG as wel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ce the boot firmware is loading Linux, the JTAG can then help again in early kernel debugging and device driver debuggin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on’t start your next bring-up project without one!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emo time…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vice Drivers in Linux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Linux has several driver type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haracter, block, network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Linux uses a formal driver mod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Drivers present a common API such as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open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lease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ad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write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User-mode device drivers are also possibl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Via </a:t>
            </a:r>
            <a:r>
              <a:rPr b="0" lang="en-US" sz="2800" spc="-1" strike="noStrike">
                <a:solidFill>
                  <a:srgbClr val="008000"/>
                </a:solidFill>
                <a:latin typeface="Lucida Sans Unicode"/>
              </a:rPr>
              <a:t>/dev/mem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008000"/>
                </a:solidFill>
                <a:latin typeface="Lucida Sans Unicode"/>
              </a:rPr>
              <a:t>/dev/ioports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asier to debug using standard GDB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Lucida Sans Unicode"/>
              </a:rPr>
              <a:t>Statically Linked – Dynamically Loaded</a:t>
            </a:r>
            <a:endParaRPr b="1" lang="en-US" sz="3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typical kernel-mode driver can be statically linked into the kernel at kernel build tim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Must be GP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Initialized in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start_kernel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 sequen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ynamically-loaded drivers, a.k.a. kernel modules are loaded after the kernel is booted and init is runnin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an be loaded from initramfs/initrd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an have proprietary licens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river Initialization Sequenc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rivers must register themselves with the kern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gister_chrdev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gister_blkdev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gister_netdev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For block and character drivers you’ll need to assign major/minor number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an be done statically or dynamically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oordinate with </a:t>
            </a:r>
            <a:r>
              <a:rPr b="0" lang="en-US" sz="2800" spc="-1" strike="noStrike">
                <a:solidFill>
                  <a:srgbClr val="008000"/>
                </a:solidFill>
                <a:latin typeface="Lucida Sans Unicode"/>
              </a:rPr>
              <a:t>&lt;linux&gt;/Documentation/devices.tx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You’ll need to create device nodes as wel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tatically or via UDEV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Loadable Module Exampl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linux/module.h&gt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linux/init.h&gt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linux/kernel.h&gt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ODULE_NAME “celf"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__init celf_init_module(void) {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k(“celf_init_module() called, "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__exit celf_cleanup_module(void) {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k(“celf_cleanup_module() called\n"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_init(celf_init_module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_exit(celf_cleanup_module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Old School Driver Registration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711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Kernel is made aware of a character device driver when the driver registers itself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ypically in the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__init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function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Registration makes the association between the major number and device driver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egister_chrdev(unsigned int major, const char *name, struct file_operations *fops)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2057400"/>
            <a:ext cx="1714320" cy="22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anning</cp:lastModifiedBy>
  <dcterms:modified xsi:type="dcterms:W3CDTF">2008-05-01T20:37:12Z</dcterms:modified>
  <cp:revision>5</cp:revision>
  <dc:subject/>
  <dc:title>Using a JTAG in Linux Bring-up and Kernel Debugging</dc:title>
</cp:coreProperties>
</file>